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E8BC-FB9F-4512-AD5F-FF25DD8E0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4AAF-5845-4278-B972-EDE8BC28E6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208E-9E92-4037-BD63-3B31595329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D0B3-61CC-4681-B65E-C4BB9CD8C8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D9C6-09E3-4FEF-92C0-3A0BDEC23B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2DAB-ABAC-44FE-AE3C-5FB9741E4A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1451-3EBB-4CA5-A64F-1470918D09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1B31-C40C-4510-AE01-AB83E00A86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EC68-F315-4080-85BA-15402298E3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8290-9C17-4620-A2A6-F84DF0C6B1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89DE-6B28-4396-B921-56106C6AC8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DA3B-A04E-47A0-98AF-B129604B5A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E449-FD3F-4487-A49F-DECE14B29D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965F-BECB-40E5-BAE6-7127EC55CA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8BE5-66AD-4E3A-8869-6EB5B3C155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3572-3E1C-4C8C-A9FF-B506765174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E2A0-85B9-437E-8CB0-6BF6A0065E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3B00-0942-43EA-9480-D0B3F99CF8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8A77-FE1C-4E26-85AC-6129C4A6F3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95B2-0115-4115-AE75-B6A7BA7363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C6D1-210B-4C77-A09C-B31204A723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C633-CC93-4112-A0A7-82ACD9D7D8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D77D-43BC-4C1F-B223-2EEA8CB2C1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0CA7-8E21-4D5A-9C92-32350C282C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0977-EB26-4D95-B69C-EDF096365B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9D99-DDCD-4DFA-BD8E-5314A91A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DB13-EAAF-46F2-937E-690C8C90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5DE1-10CC-4B82-A004-73A677EC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A3CD-E75B-4949-B6F2-1F42AE57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E654-99FF-4BB2-B042-3C7F8FD6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66D9-9F0D-4B83-B078-3FAC1407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8AEA-BBA3-4208-B840-DCDFA83E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42B8-D7BE-4C4F-8E18-55FF3FD5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3E64-0847-457B-9F0B-27B451D7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BB20-5D14-4976-98F1-9AFD3C17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3306-B81A-43EB-9FF8-4A295C3F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C0AC-35AF-43ED-BDCF-F20EF5C8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57CD-4845-480D-B2D3-FAA50A02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70F0-C28E-48DE-8E6E-FD77B314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8A4F-B47E-45F0-B229-693B69D7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6324-D5A2-4D3E-875C-CBCE842B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8E88-8AF0-4DEF-8561-AD054E8F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39B-E65F-4EE4-AA99-0BF39F7C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1DF1-6EF7-4FD8-88C6-A1122390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741-3656-468E-A87A-59577412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16F0-43FD-4235-B102-88AA0D0F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10D8-692E-477C-AA27-050DC9E9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BF03-5F5B-4684-80FE-A615C113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266D-BA5A-4D32-9FCD-1F13E882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8E5E-AC8D-41EF-A277-F552633F08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657A-0937-4743-B0FE-E2B9E3E2F1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google.com/imgres?imgurl=http://www.union.edu/PUBLIC/GEODEPT/COURSES/geo-10/images/Scoria.jpeg&amp;imgrefurl=http://www.union.edu/PUBLIC/GEODEPT/COURSES/geo-10/igneous.htm&amp;h=211&amp;w=324&amp;sz=27&amp;hl=en&amp;start=4&amp;tbnid=qNklTvIv-fWFTM:&amp;tbnh=77&amp;tbnw=118&amp;prev=/images%3Fq%3Digneous%2Brocks%26svnum%3D10%26hl%3Den%26rls%3DHPIB,HPIB:2005-19,HPIB:en%26sa%3DN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www.learner.org/channel/courses/essential/earthspace/images/show5-brit-with-igneous.jpg&amp;imgrefurl=http://www.learner.org/channel/courses/essential/earthspace/session3/closer.html&amp;h=300&amp;w=300&amp;sz=28&amp;hl=en&amp;start=12&amp;tbnid=iEnzTA6MoGvW4M:&amp;tbnh=116&amp;tbnw=116&amp;prev=/images%3Fq%3Digneous%2Brocks%26svnum%3D10%26hl%3Den%26rls%3DHPIB,HPIB:2005-19,HPIB:en%26sa%3DN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Rock Cyc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Kathy Pay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lace the wax paper on the crayon sandwich and carefully place inside a 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the book on the floor and have someone stand on it for 1 minute applying even greater pressure than bef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pressure, friction is creating some heat along with the heat from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now modeling the pressure that is applied when rocks are buried at greater depths inside the Ear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fully remove the crayon sandwich from the book.  Remove the top wax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a small piece of the crayon sandwich in Plate 3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duct represents a type of rock that is called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tamorphic Roc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means “to change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7" dur="2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70" dur="2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5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mp the edges of a piece of aluminum foil to make a holder (boat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the remainder of the crayon sandwich on the aluminum foil without the wax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 clothes pin as a hand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 the next directions carefu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6176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NING!!!… Hot plates are hot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group will bring their item to be placed on the hotplat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the other groups are observing, you are to answer the following questions in your journal based on what you have observed so far during the experi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urnal Wri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rocks for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ng does it take rocks to for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o rocks come fr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rocks forming right 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n’t all rocks look the sa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at from the hot plate represents the great temperatures that are found deep inside the Ear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lted crayons represent a product of melted rock material call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gma or lav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the melted material to cool and har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fully peel off the aluminum fo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the material in Plate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represents a type of rock that is called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gneous Roc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means “fir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3" dur="2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390" dur="2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500"/>
                            </p:stCondLst>
                            <p:childTnLst>
                              <p:par>
                                <p:cTn id="392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393" dur="2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your four plates in a circular shape in the order of their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four circles on your chart paper to represent the pl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13"/>
          <p:cNvGrpSpPr/>
          <p:nvPr/>
        </p:nvGrpSpPr>
        <p:grpSpPr>
          <a:xfrm>
            <a:off x="2971800" y="3200400"/>
            <a:ext cx="3048120" cy="2666880"/>
            <a:chOff x="2971800" y="3200400"/>
            <a:chExt cx="3048120" cy="2666880"/>
          </a:xfrm>
        </p:grpSpPr>
        <p:sp>
          <p:nvSpPr>
            <p:cNvPr id="196" name="Oval 4"/>
            <p:cNvSpPr/>
            <p:nvPr/>
          </p:nvSpPr>
          <p:spPr>
            <a:xfrm>
              <a:off x="4114800" y="3200400"/>
              <a:ext cx="83808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5"/>
            <p:cNvSpPr/>
            <p:nvPr/>
          </p:nvSpPr>
          <p:spPr>
            <a:xfrm>
              <a:off x="4114800" y="4952880"/>
              <a:ext cx="83808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6"/>
            <p:cNvSpPr/>
            <p:nvPr/>
          </p:nvSpPr>
          <p:spPr>
            <a:xfrm>
              <a:off x="2971800" y="4191120"/>
              <a:ext cx="83808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7"/>
            <p:cNvSpPr/>
            <p:nvPr/>
          </p:nvSpPr>
          <p:spPr>
            <a:xfrm>
              <a:off x="5181480" y="4038480"/>
              <a:ext cx="83844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0"/>
                            </p:stCondLst>
                            <p:childTnLst>
                              <p:par>
                                <p:cTn id="40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ach circle draw, color and label the products that are on the plate located at that position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di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dimentary R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morphic R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neous R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 the drawing with arrows to show a continuous recycling of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4724280" y="1981080"/>
            <a:ext cx="3048120" cy="2666880"/>
            <a:chOff x="4724280" y="1981080"/>
            <a:chExt cx="3048120" cy="2666880"/>
          </a:xfrm>
        </p:grpSpPr>
        <p:sp>
          <p:nvSpPr>
            <p:cNvPr id="203" name="Oval 5"/>
            <p:cNvSpPr/>
            <p:nvPr/>
          </p:nvSpPr>
          <p:spPr>
            <a:xfrm>
              <a:off x="5867280" y="1981080"/>
              <a:ext cx="83808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6"/>
            <p:cNvSpPr/>
            <p:nvPr/>
          </p:nvSpPr>
          <p:spPr>
            <a:xfrm>
              <a:off x="5867280" y="3733560"/>
              <a:ext cx="83808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7"/>
            <p:cNvSpPr/>
            <p:nvPr/>
          </p:nvSpPr>
          <p:spPr>
            <a:xfrm>
              <a:off x="4724280" y="2971800"/>
              <a:ext cx="83808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8"/>
            <p:cNvSpPr/>
            <p:nvPr/>
          </p:nvSpPr>
          <p:spPr>
            <a:xfrm>
              <a:off x="6933960" y="2819160"/>
              <a:ext cx="83844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Line 9"/>
          <p:cNvSpPr/>
          <p:nvPr/>
        </p:nvSpPr>
        <p:spPr>
          <a:xfrm>
            <a:off x="6705720" y="2666880"/>
            <a:ext cx="3808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 flipH="1">
            <a:off x="6705360" y="3733920"/>
            <a:ext cx="6094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 flipH="1" flipV="1">
            <a:off x="5333760" y="3886200"/>
            <a:ext cx="5331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 flipV="1">
            <a:off x="5105520" y="251460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500"/>
                            </p:stCondLst>
                            <p:childTnLst>
                              <p:par>
                                <p:cTn id="424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7000"/>
                            </p:stCondLst>
                            <p:childTnLst>
                              <p:par>
                                <p:cTn id="4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diagram of the Rock Cycle, we will label the arrows to show the process that causes one type of rock to change into another type of r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e will add the other arrows that show how rocks may change without going through entire cyc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tle your drawing on the chart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4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ct a model of the rock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 the model of a rock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rock cycle color"/>
          <p:cNvPicPr/>
          <p:nvPr/>
        </p:nvPicPr>
        <p:blipFill>
          <a:blip r:embed="rId1"/>
          <a:stretch/>
        </p:blipFill>
        <p:spPr>
          <a:xfrm>
            <a:off x="914400" y="171360"/>
            <a:ext cx="73152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di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weathering and erosion in Big Bend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dimentary R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Striped_Butte02"/>
          <p:cNvPicPr/>
          <p:nvPr/>
        </p:nvPicPr>
        <p:blipFill>
          <a:blip r:embed="rId1"/>
          <a:stretch/>
        </p:blipFill>
        <p:spPr>
          <a:xfrm>
            <a:off x="0" y="1600200"/>
            <a:ext cx="8991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morphic R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0" descr="gneiss1"/>
          <p:cNvPicPr/>
          <p:nvPr/>
        </p:nvPicPr>
        <p:blipFill>
          <a:blip r:embed="rId1"/>
          <a:stretch/>
        </p:blipFill>
        <p:spPr>
          <a:xfrm>
            <a:off x="3886200" y="2940120"/>
            <a:ext cx="4495680" cy="3917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slate"/>
          <p:cNvPicPr/>
          <p:nvPr/>
        </p:nvPicPr>
        <p:blipFill>
          <a:blip r:embed="rId2"/>
          <a:stretch/>
        </p:blipFill>
        <p:spPr>
          <a:xfrm>
            <a:off x="457200" y="1760400"/>
            <a:ext cx="342900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gneous R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obsidian"/>
          <p:cNvPicPr/>
          <p:nvPr/>
        </p:nvPicPr>
        <p:blipFill>
          <a:blip r:embed="rId1"/>
          <a:stretch/>
        </p:blipFill>
        <p:spPr>
          <a:xfrm>
            <a:off x="6095880" y="1447920"/>
            <a:ext cx="2000520" cy="1743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Scor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3733920"/>
            <a:ext cx="3276720" cy="2139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show5-brit-with-igneou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35812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7" descr="granite1"/>
          <p:cNvPicPr/>
          <p:nvPr/>
        </p:nvPicPr>
        <p:blipFill>
          <a:blip r:embed="rId6"/>
          <a:stretch/>
        </p:blipFill>
        <p:spPr>
          <a:xfrm>
            <a:off x="990720" y="1295280"/>
            <a:ext cx="304776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rocks for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ng does it take rocks to for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o rocks come fr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rocks forming right 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n’t all rocks look the sa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se questions and more can be answered by learning about a cycle in nature called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the cycle takes millions of years to occur, we will have to study a model to help us understand what happe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14600" y="25146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Rock Cyc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ay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 pl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x paper (2 shee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stic knif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ING!!! The blade can cut skin, so be very caref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d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thes 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t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 pencil sharpener to shave the crayons into a small c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breaking the crayons into smaller pieces, we  modeled the process called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ather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one pinch of each color in a pile on Plate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eces of crayon represent products call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dimen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one color of the crayon pieces to the center of a piece of wax pap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pile that covers about 6 cm by 6 cm in are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moving the sediments to a new location, you are modeling the process call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ro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a new layer of crayons on top of the pi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laying down the sediments, you are modeling the process call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posi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51920" y="68580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 the pile with another sheet of wax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fully place the wax paper &amp; crayons between two pieces of cardboard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s on the cardboard to apply even, vertical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modeling the pressure that is applied to the sediments after they are buried inside the Ear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 the cardboards.  Carefully remove the wax paper from the crayon sandwich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a small amount of the material in Plate 2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duct represents a type of rock that is call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dimentary ro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it is made of sedi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02:12:26Z</dcterms:created>
  <dc:creator>g.w Carver</dc:creator>
  <dc:description/>
  <dc:language>en-US</dc:language>
  <cp:lastModifiedBy>dockensf</cp:lastModifiedBy>
  <dcterms:modified xsi:type="dcterms:W3CDTF">2010-07-17T11:13:05Z</dcterms:modified>
  <cp:revision>6</cp:revision>
  <dc:subject/>
  <dc:title>The Rock Cycle</dc:title>
</cp:coreProperties>
</file>